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B0C-DD68-41C5-8B47-0528600C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B60-2F33-412D-828A-2B88BCEE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71B-1FD7-4159-9D44-03808A27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DCC-798E-43C7-B384-AFB981F1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2A8-0EFD-4D04-A8AE-BE502154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E9B-23D7-4657-8B40-117BC640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9FF-F850-4620-BA28-F503B51D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AEC-66CA-408C-9D86-3105683B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434-2223-45B1-8B0B-B2D64891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95E-EAE1-4A0F-A361-C6C72857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A83-170B-4392-AD77-5593D68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A10-E87B-4A9F-9965-D6B48134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D160-7E5A-43E9-9B5C-63EA52BED92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is documentos\Sin título-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Mis documentos\Sin título-1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Mis documentos\Sin título-1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is documentos\Sin título-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08:00:44Z</dcterms:created>
  <dc:creator>Grupo Editorial</dc:creator>
  <dc:description/>
  <dc:language>en-US</dc:language>
  <cp:lastModifiedBy>TORRES</cp:lastModifiedBy>
  <dcterms:modified xsi:type="dcterms:W3CDTF">2010-12-18T22:23:09Z</dcterms:modified>
  <cp:revision>1</cp:revision>
  <dc:subject/>
  <dc:title>Sin título de diapositiva</dc:title>
</cp:coreProperties>
</file>